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9F2-894E-47AD-8DCA-89F1B818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ACB-2A9F-452B-A27E-94E66BF4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FDC-0F1C-4C5D-9F80-AE38728A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05B-FDF2-4D8E-9B61-F01D973A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332-A164-4C8E-A232-28FC7953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A6F-FD7B-4B34-AAD0-233F5FB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C8D7-7C25-4A55-A0D8-0BFA76F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8DC-980F-4828-8C6E-936C414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C78E-6F51-4B85-949E-CC70751F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2E6C-D6E5-4E7A-9AD3-ABDDF41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C709-83D1-4CB9-B354-9B45D44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B0E-FAD2-4723-AB18-38B24CD6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F48A-49B0-485E-9275-33B3E04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8446-FC22-41E9-937F-B393FE0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5147-8260-4697-8526-7B74537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209-2898-458A-9106-0A11B19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A25-B2AD-4D9A-B5EE-8F21E177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7E0-216C-4A6D-B2DF-0E97ADC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1ED-C4A4-424A-A954-0265E95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06D-FB40-4D28-924E-0A4272D9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CE8-DA8C-4AF0-92DB-D67BA4FE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110-A34C-4D89-BCAC-FE76EE0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6CF-D290-42BC-BD47-FAE0F03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B1A-4571-4CAD-AA60-31C2DE2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1049-4D96-4BA8-A357-2092F2CD946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F59C-88C1-40CD-AD14-3BC3625B515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’s Laws of Heredity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Why we look the way we look..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Independent Assortment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enes for different traits ar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inherited independentl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 each other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there for each trait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an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oes a parent pass on to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fspring for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o we call the trait that i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upper or lower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bout the one 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sappear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Phenotype &amp; Genotyp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way an organism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ok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 hair or brown hai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 combin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a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eterozygous &amp; Homozygou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if the two alleles for a trait ar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t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omozygous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if the two alleles for a trait are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me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Dihybrid vs Monohybrid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ihybrid 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rossing parents who differ in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wo traits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E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e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rossing parents who differ in only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ne trait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om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What is 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assing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n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traits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rom parents to offspr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the study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 used pea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reproduc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sexuall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have two distinct,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e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, sex cells calle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i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it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easy to isol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Mendel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crossed</a:t>
            </a: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 them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the uniting of male and female 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ombining gametes from parents with different trait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id Mendel cross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rait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amet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etic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What Did Mendel Find?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e discovered differen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law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u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hat explain  factors affecting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Unit Facto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ch organism has two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different forms of the same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located on chromosomes, they control how an organism develop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Dominanc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s 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ominant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upp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appear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ecessive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low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Segregation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wo alleles for a trai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ust separat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hen gametes are formed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parent randomly pass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y on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ele for each trait to each offspr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9:25:12Z</dcterms:created>
  <dc:creator>Newport News</dc:creator>
  <dc:description/>
  <dc:language>en-US</dc:language>
  <cp:lastModifiedBy>Pepe</cp:lastModifiedBy>
  <dcterms:modified xsi:type="dcterms:W3CDTF">2011-02-09T19:13:16Z</dcterms:modified>
  <cp:revision>13</cp:revision>
  <dc:subject/>
  <dc:title>Mendel’s Laws of Heredity</dc:title>
</cp:coreProperties>
</file>